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7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339840"/>
            <a:ext cx="518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ristin ate 1/3 of a sandwich.  Her friend at 2/5 of the sandwich.  What fraction of the sandwich did they eat in 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85800" y="644400"/>
            <a:ext cx="5587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valu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+ 8 x (5 – 3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$64.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609588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$65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502920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$64.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952880" y="6095880"/>
            <a:ext cx="33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$65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23960" y="49212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rtinez family spent $453.25 for 7 nights at a hotel.  What was the cost per n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0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3960" y="23796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5 students in Sanjay’s class.  The teacher will choose one student at random to read a poem.  What is the probability the teacher will choose Sanj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132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6400" y="4275000"/>
            <a:ext cx="638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ified by Mrs. McGr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200" y="5851440"/>
            <a:ext cx="6901560" cy="1008720"/>
            <a:chOff x="132120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20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07960" y="603576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4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8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2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74720" y="33984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ertain county is shaped like a square.  The county has an area of 144 square miles. What is the length of each side of the squ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r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98400" y="314280"/>
            <a:ext cx="544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gh temperature each day in Upland is 12 degrees F less than in Riverton.  If r = the high temperature (in F) in Riverton, which expression gives the high temperature in Up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49160" y="263520"/>
            <a:ext cx="518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rectangle has a perimeter of 130 feet and a width of 20 feet.  What is the length of the rectang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244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076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1474920" y="942840"/>
            <a:ext cx="36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% of the class bought lunch today. If there are 30 students in the class, how many bought lunc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7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4 ft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44 ft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44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3400" y="647640"/>
            <a:ext cx="518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volume of a rectangular prism 6 ft. long, 3 ft. wide and 8 ft. dee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0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8 cm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8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4 cm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88880" y="289080"/>
            <a:ext cx="5181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triangle has a base of 9 cm., and a height of 12 cm.  What is the area of the tri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8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80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2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818240" y="610884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t enough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01760" y="228600"/>
            <a:ext cx="5786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triangle has angles measuring 30 degrees and 92 degrees.  What is the measure of the other 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2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3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8.26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6.52 m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6.5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12640" y="735120"/>
            <a:ext cx="518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circle has a radius of 9 meters.  What is the circumference of the circ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8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7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9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5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7320" y="250920"/>
            <a:ext cx="518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240 students at a karate school, and 10% of them are ranked as “black belts.” How many of the students are ranked as black bel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7320" y="415800"/>
            <a:ext cx="51818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n = 125, what is the value of the expression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 +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1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1.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1.8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1.9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5040" y="33984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water tank loses 4.25 gallons of water every hour through a leak.  How many gallons of water will leak from the tank in 7.5 hou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Brian McGrath</cp:lastModifiedBy>
  <dcterms:modified xsi:type="dcterms:W3CDTF">2011-03-06T19:46:15Z</dcterms:modified>
  <cp:revision>23</cp:revision>
  <dc:subject/>
  <dc:title>No Slide Title</dc:title>
</cp:coreProperties>
</file>